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6E1-C1F5-4131-9757-DDF4FD4D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4A8-3A93-4BA2-87B1-48741F08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08A-A157-40C1-8DFF-4B9AF74F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457-0F91-436C-BAE9-036A9381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0872-E96A-4231-B232-1E3B1797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4699-72A1-4824-B962-00B9D031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1B59-9278-474B-AF0F-18A80C34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E278-C540-41B2-A484-D9BFCBA3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978E-C861-4045-904C-7D18C123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BFCC-6ADB-4796-9DE5-2856CDA8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92FA-EC8D-414E-BEC2-D3B3910A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B01-C86C-4EDA-9EDF-C83AF633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D643-6418-4C09-BC8E-0C9BD262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612C-901C-4CB3-8B61-D6A86200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5BE6-AC4C-489C-A5D8-D1B44ECD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9347-8649-4240-8496-4496A624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8C9E-7F97-432F-8BE3-9EF26EF5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EDF-2DA7-4208-AE9B-741DBDFB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305-2913-46A3-8274-92580E6E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D08-47CB-4ACF-9AE3-635ED453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457-C685-4826-80AF-B5153BEF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916-3012-4BF6-AA8E-DB284452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B75-C448-4B2B-A408-02A956F3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852-10F7-4C20-82AF-D3D09D93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876E-062A-4A51-9FD4-35E69F84C35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A8A5-F3DD-472B-944E-9CC6FB3D0D0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ducating Boys: Examining Which Learning Style Is Most Effectiv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Action Research Project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Peta-Gaye T. Gre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ation 702.2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ring 201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ble of Conten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ement of the Problem                                       3                       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Review of Related Literature                                  4-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Statement of the Hypothesis                                   9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ment of the Problem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significant differences in the ways girls and boys learn. Traditional education-the “sit down, be quiet and learn” approach-a system in place for decades and far more suitable to female learning, has been falling boys for a long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view of Related Litera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ys are impulsive, special-kinesthetic and physical aggressive learners. The focus on introducing more-boy friendly teaching strategies in the classroom has increase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arrier, 2009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ys and girls, because of differences in brain construction, have differing educational needs and schools are not meeting boys’ nee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eaver-Hightower, 2003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view of Related Litera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ta-Analytic Validation of the Dunn and Dunn Model of Learning- Style Preferenc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Dunn, Griggs,Olson, &amp; Beasley, 2001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der Characteristics of Children in the Primary Stage of Instruc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Buzhigeeva, 2004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view of Related Litera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mentary School Students’ Learning Preferences and the Classroom Learning Environment: Implications for Educational Practice and Polic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Johnson, 2006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blem of Boys’ Literacy Underachievement: Raising Some Quest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Watson, Kehler &amp; Martino, 2010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view of Related Litera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 Teachers And The “Boy Problem”: An Issue Of Recuperative Masculinity Politic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Martino &amp; Kehler, 2006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ating Boys: Tempering Rhetoric With Research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Froese-Germain, 2006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view of Related Litera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aching  to the Minds of Boy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King &amp; Gurian, 2006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ching Boys: An International Study of Effective Teaching Practic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Reichert &amp; Hawley, 2010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ment of the Hypothesi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1: Conducting engaging, active and hands-on lessons with the boys in Class A will promote successful learning and hold their interes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0:24:45Z</dcterms:created>
  <dc:creator>DIMS BFS</dc:creator>
  <dc:description/>
  <dc:language>en-US</dc:language>
  <cp:lastModifiedBy>DIMS BFS</cp:lastModifiedBy>
  <dcterms:modified xsi:type="dcterms:W3CDTF">2010-03-23T04:55:51Z</dcterms:modified>
  <cp:revision>9</cp:revision>
  <dc:subject/>
  <dc:title>Educating Boys:Examining Which Learning Style Is Most Effective</dc:title>
</cp:coreProperties>
</file>